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7F4-3FFC-4A38-878E-70BE9CCE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20E-8D18-46F2-B2AE-AD819749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DFB-F323-411A-BBCC-84D35873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050-B67D-444B-A03E-516E43C8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00B4-19F6-4CC1-9172-3CD76413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5CEA-29F8-4108-9DCF-663C1D5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BA0C-304E-4C4B-A35C-D357E1D0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E617-8DAE-4270-A23D-38BAE9AF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60AD-427F-4780-9D80-5F492200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35DE-99C0-4974-837F-B4984F47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D20C-41D0-4231-9153-F66580B4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DE7-4E36-41E2-9FD2-E10F6EA4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B678-3259-45E7-BBCC-22CE5EAF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E6A4-5FB3-44CB-8C74-C77A9955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5438-7AC1-4A0E-A2DA-947AB8F3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4D0E-1721-4802-A0E1-1316C7A0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0DC4-6870-4E52-9718-0806E806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514-52E5-402E-875A-8C4165C3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F2B-A4FB-438F-8F87-429CA27F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095-2E19-493B-9E1B-F977464F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331-5FD9-4684-A86C-BAC29170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54F-227E-41D9-A9A5-7526EBBA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3EC-117A-4133-851E-CDD98FEB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58E-C158-4788-AF8A-4E1D1781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B310-63EA-4ABA-AC0A-9708A6C9434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F603-8358-4C52-831A-EA7B106D57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5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6.jpe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5.jpe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6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5"/>
          <p:cNvSpPr txBox="1"/>
          <p:nvPr/>
        </p:nvSpPr>
        <p:spPr>
          <a:xfrm>
            <a:off x="3708360" y="6093000"/>
            <a:ext cx="1830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792000" y="1125360"/>
            <a:ext cx="5832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Уголовная ответственн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и преступ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тадии совершения преступ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WordArt 9"/>
          <p:cNvSpPr txBox="1"/>
          <p:nvPr/>
        </p:nvSpPr>
        <p:spPr>
          <a:xfrm>
            <a:off x="115920" y="3879720"/>
            <a:ext cx="927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т.29,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ч.1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9" name="WordArt 11"/>
          <p:cNvSpPr txBox="1"/>
          <p:nvPr/>
        </p:nvSpPr>
        <p:spPr>
          <a:xfrm>
            <a:off x="2627280" y="692280"/>
            <a:ext cx="3914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ды покушен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5400" y="1146240"/>
            <a:ext cx="888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еоконченн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лицо еще не совершало всего того, что хотело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Оконченн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лицо совершило все, что наметило, но ожида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ый результат не наступил по независящим от этого лица об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ятельства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егодн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покушение, при котором преступный результат н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упил вследствие фактической ошибк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185840" y="3605040"/>
            <a:ext cx="78069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еступление считается оконченным , если в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шенном деянии содержатся все признаки состава пре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упления, предусмотренного законом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181440" y="5194440"/>
            <a:ext cx="884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К предусматривает возможность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свобождения от уголовно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тветственност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иц, добровольно отказавшихся от заверш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я преступл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тадии совершения преступ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2627280" y="858960"/>
            <a:ext cx="3914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обровольный отказ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96280" y="1517760"/>
            <a:ext cx="84927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амостоятельное принятие лицом решения, о безусловно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кончательном отказе от доведения до конца задуманного 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чатого преступл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2840" y="2997360"/>
            <a:ext cx="898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возможен на стадиях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риготовления к преступлению, неоко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нного покушения, оконченного покушения, если между дея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ем и его последствиями имеется временной разрыв и имеет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я возможность нарушения причинно-следственной связ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4760" y="4900680"/>
            <a:ext cx="908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ряду с исполнителем, добровольно отказавшимся от престу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ения, не подлежат уголовной ответственности организатор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стрекатель и пособник этого преступления( если способств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ли не доведению преступления до конца.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оучастие в преступлен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WordArt 3"/>
          <p:cNvSpPr txBox="1"/>
          <p:nvPr/>
        </p:nvSpPr>
        <p:spPr>
          <a:xfrm>
            <a:off x="179280" y="836640"/>
            <a:ext cx="223200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оучастие 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еступлении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670480" y="765000"/>
            <a:ext cx="620820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мышленное совместное участие двух ил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олее лиц в совершении умышленного пр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упле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WordArt 7"/>
          <p:cNvSpPr txBox="1"/>
          <p:nvPr/>
        </p:nvSpPr>
        <p:spPr>
          <a:xfrm>
            <a:off x="757080" y="1486080"/>
            <a:ext cx="863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т. 32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УК РФ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1360440" y="2349360"/>
            <a:ext cx="2203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организованна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групп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5651640" y="2421000"/>
            <a:ext cx="2203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еступно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ообщество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346320" y="3086280"/>
            <a:ext cx="3658320" cy="1922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ойчивая группа лиц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ранее объединившаяс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совершения одног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и нескольких преступ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5043600" y="3090960"/>
            <a:ext cx="3698280" cy="1922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уппа лиц, предварит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но организовавшаяс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устойчивую иерарх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скую структуру для с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шения преступлен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611280" y="5229360"/>
            <a:ext cx="781056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изнаки организованной группы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09960" y="5537160"/>
            <a:ext cx="86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личие двух или более лиц, устойчивость, объединение дл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я преступлений, отсутствие иерархической струк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р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оучастие в преступлен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WordArt 10"/>
          <p:cNvSpPr txBox="1"/>
          <p:nvPr/>
        </p:nvSpPr>
        <p:spPr>
          <a:xfrm>
            <a:off x="539640" y="765000"/>
            <a:ext cx="78105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Факультативные признаки организованной группы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88280" y="1089000"/>
            <a:ext cx="888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ооруженность, наличие коррумпированных связей, ориент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ванность на определенные виды преступлений, призн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ровских традиций, дисциплинированность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WordArt 12"/>
          <p:cNvSpPr txBox="1"/>
          <p:nvPr/>
        </p:nvSpPr>
        <p:spPr>
          <a:xfrm>
            <a:off x="649440" y="2349360"/>
            <a:ext cx="78102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знаки преступного сообщества</a:t>
            </a:r>
            <a:endParaRPr b="1" lang="en-US" sz="2400" spc="1" strike="noStrike">
              <a:ln w="9360">
                <a:solidFill>
                  <a:srgbClr val="cc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39600" y="2813040"/>
            <a:ext cx="91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е менее пяти человек, или не менее двух групп, объедин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систематического совершения тяжких преступлений, устой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вость, сплоченность, наличие иерархической структуры, под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ржание преступных традици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WordArt 14"/>
          <p:cNvSpPr txBox="1"/>
          <p:nvPr/>
        </p:nvSpPr>
        <p:spPr>
          <a:xfrm>
            <a:off x="649440" y="4530600"/>
            <a:ext cx="78102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акультативные признаки преступного сообщества</a:t>
            </a:r>
            <a:endParaRPr b="1" lang="en-US" sz="2400" spc="1" strike="noStrike">
              <a:ln w="9360">
                <a:solidFill>
                  <a:srgbClr val="cc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117360" y="4797360"/>
            <a:ext cx="88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ооруженность, наличие коррумпированных связей, жестка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сциплина, монополизация преступной деятельности, стрем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ие к расширению преступной деятельности, отмы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ных доходов, строгое распределение ролей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оучастие в преступлен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WordArt 9"/>
          <p:cNvSpPr txBox="1"/>
          <p:nvPr/>
        </p:nvSpPr>
        <p:spPr>
          <a:xfrm>
            <a:off x="2700360" y="620640"/>
            <a:ext cx="38862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ды  соучаст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7" name="WordArt 10"/>
          <p:cNvSpPr txBox="1"/>
          <p:nvPr/>
        </p:nvSpPr>
        <p:spPr>
          <a:xfrm>
            <a:off x="108000" y="1627200"/>
            <a:ext cx="2017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рганизатор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381760" y="907920"/>
            <a:ext cx="6601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о, организовавшее совершение преступл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я и руководившее его исполнением, либ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вшее организованную группу или пре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пное сообщество либо руководившее им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WordArt 12"/>
          <p:cNvSpPr txBox="1"/>
          <p:nvPr/>
        </p:nvSpPr>
        <p:spPr>
          <a:xfrm>
            <a:off x="108000" y="3209760"/>
            <a:ext cx="2017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одстрекатель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2383560" y="2662200"/>
            <a:ext cx="6607440" cy="119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о, склонившее другое лицо к  совершению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утем угрозы, уговора, шанта 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а,насил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WordArt 14"/>
          <p:cNvSpPr txBox="1"/>
          <p:nvPr/>
        </p:nvSpPr>
        <p:spPr>
          <a:xfrm>
            <a:off x="108000" y="4290840"/>
            <a:ext cx="2017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Исполнитель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2380320" y="4035600"/>
            <a:ext cx="6650280" cy="825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о,непосредственно участвовавшее в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ении преступле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WordArt 16"/>
          <p:cNvSpPr txBox="1"/>
          <p:nvPr/>
        </p:nvSpPr>
        <p:spPr>
          <a:xfrm>
            <a:off x="177840" y="5732640"/>
            <a:ext cx="20178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Impact"/>
              </a:rPr>
              <a:t>Пособник</a:t>
            </a:r>
            <a:endParaRPr b="1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2384640" y="5040360"/>
            <a:ext cx="6616440" cy="1557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о, содействовавшее совершению преступ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ия, и сокрытию  преступника, следов пре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пления или предметов добытых преступ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м путем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оучастие в преступлен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WordArt 3"/>
          <p:cNvSpPr txBox="1"/>
          <p:nvPr/>
        </p:nvSpPr>
        <p:spPr>
          <a:xfrm>
            <a:off x="1908000" y="692280"/>
            <a:ext cx="540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тветственность за соучаст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79440" y="1144440"/>
            <a:ext cx="84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ветственность соучастников определяется характером 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ю фактического участия в преступлени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оисполнители отвечают по одной стать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WordArt 13"/>
          <p:cNvSpPr txBox="1"/>
          <p:nvPr/>
        </p:nvSpPr>
        <p:spPr>
          <a:xfrm>
            <a:off x="900000" y="2421000"/>
            <a:ext cx="74678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Прикосновенность к преступлению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4080" y="2781360"/>
            <a:ext cx="90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ние связанное с совершением преступлением другим лицо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 прямо и виновно не обуславливающее его совершени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WordArt 15"/>
          <p:cNvSpPr txBox="1"/>
          <p:nvPr/>
        </p:nvSpPr>
        <p:spPr>
          <a:xfrm>
            <a:off x="1308240" y="3645000"/>
            <a:ext cx="26161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укрывательство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51" name="WordArt 16"/>
          <p:cNvSpPr txBox="1"/>
          <p:nvPr/>
        </p:nvSpPr>
        <p:spPr>
          <a:xfrm>
            <a:off x="5627520" y="3645000"/>
            <a:ext cx="26164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опустительство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01240" y="4032360"/>
            <a:ext cx="46490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ранее не обещанное сокрыт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ца совершившего преступл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е, орудий, следов преступл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я и предметов, добытых пре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пным путем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аказан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на срок не более 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т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5003640" y="4017960"/>
            <a:ext cx="4032360" cy="265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воспрепятствование со-вершению преступления лицом, которое в силу слу-жебного долга или закона должно и могло это сде-лать. (Т.Е. применяется к должностным лицам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640" y="133200"/>
            <a:ext cx="893772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Обстоятельства, исключающие преступность дея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250920" y="765000"/>
            <a:ext cx="554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Необходимая оборон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5600" y="1217520"/>
            <a:ext cx="871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ояние лица, возникающее при защите личности и пра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ороняющегося  лица или других лиц, охраняемых законо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ресов общества и государства от общественно опасног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ягательства, если при этом не превышены пределы необ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одимой обороны. Необходимая оборона должна соответств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ть степени опасност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WordArt 12"/>
          <p:cNvSpPr txBox="1"/>
          <p:nvPr/>
        </p:nvSpPr>
        <p:spPr>
          <a:xfrm>
            <a:off x="250920" y="3706920"/>
            <a:ext cx="856908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Причинение вреда при задержании лица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овершившего преступл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86840" y="4535640"/>
            <a:ext cx="887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омерное причинение вреда лицу, совершившему престу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ение при его задержании для доставлении органам власти 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ечения возможности совершения им новых преступлений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лицо уклоняется от задержания,вред причиняется в момен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ержания и в рамках закона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640" y="133200"/>
            <a:ext cx="893772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Обстоятельства, исключающие преступность дея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WordArt 3"/>
          <p:cNvSpPr txBox="1"/>
          <p:nvPr/>
        </p:nvSpPr>
        <p:spPr>
          <a:xfrm>
            <a:off x="250920" y="692280"/>
            <a:ext cx="5545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Крайняя необходимость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9600" y="1031760"/>
            <a:ext cx="90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чинение вреда для устранения опасности, непосредстве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 угрожающей личности и правам данного лица или ины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ресам общества и государства, охраняемым законом. (Вре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лжен быть менее значительным, чем предотвращаемый.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41400" y="2978280"/>
            <a:ext cx="90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стижение общественно полезной цели, сопряженное с вынуж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нным причинением вреда охраняемым законам интереса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179280" y="2637000"/>
            <a:ext cx="5545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4.Обоснованный риск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WordArt 9"/>
          <p:cNvSpPr txBox="1"/>
          <p:nvPr/>
        </p:nvSpPr>
        <p:spPr>
          <a:xfrm>
            <a:off x="177840" y="3852720"/>
            <a:ext cx="78501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5.Исполнение приказа или распоряжен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95040" y="4194000"/>
            <a:ext cx="900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чинение вреда охраняемым законом интересам во исполн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е обязательных для лица приказов и распоряжений (Зако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сть приказа, приказ не воспринимается как незаконный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23840" y="5775480"/>
            <a:ext cx="89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зическое или психическое воздействие на человека, лишаю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ее его возможности руководить своими действиям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WordArt 12"/>
          <p:cNvSpPr txBox="1"/>
          <p:nvPr/>
        </p:nvSpPr>
        <p:spPr>
          <a:xfrm>
            <a:off x="177840" y="5433840"/>
            <a:ext cx="8570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5.Физическое или психическое принужд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133200"/>
            <a:ext cx="893772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Рецидив преступлений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83760" y="765000"/>
            <a:ext cx="831888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преступления лицом , имеющим судимость з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нее совершенное умышленное преступлени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WordArt 12"/>
          <p:cNvSpPr txBox="1"/>
          <p:nvPr/>
        </p:nvSpPr>
        <p:spPr>
          <a:xfrm>
            <a:off x="2671920" y="1844640"/>
            <a:ext cx="38001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ды рецидива: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WordArt 13"/>
          <p:cNvSpPr txBox="1"/>
          <p:nvPr/>
        </p:nvSpPr>
        <p:spPr>
          <a:xfrm>
            <a:off x="250920" y="2208240"/>
            <a:ext cx="33433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1.Общи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115200" y="2600280"/>
            <a:ext cx="89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любого преступления ранее судимым лицом, суд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сть с которого не снята и не погашен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WordArt 15"/>
          <p:cNvSpPr txBox="1"/>
          <p:nvPr/>
        </p:nvSpPr>
        <p:spPr>
          <a:xfrm>
            <a:off x="250920" y="3459240"/>
            <a:ext cx="40338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2.Специальны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3200" y="3852720"/>
            <a:ext cx="90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аналогичного преступления ранее судимым лицо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димость с которого не снята и не погашена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WordArt 17"/>
          <p:cNvSpPr txBox="1"/>
          <p:nvPr/>
        </p:nvSpPr>
        <p:spPr>
          <a:xfrm>
            <a:off x="250920" y="4710240"/>
            <a:ext cx="33433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3.Просто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396000" y="5103720"/>
            <a:ext cx="84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преступления лицом, ранее судимым один раз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WordArt 19"/>
          <p:cNvSpPr txBox="1"/>
          <p:nvPr/>
        </p:nvSpPr>
        <p:spPr>
          <a:xfrm>
            <a:off x="250920" y="5597640"/>
            <a:ext cx="33433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4.Сложны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89280" y="5991120"/>
            <a:ext cx="90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преступления лицом, имеющим две или более суд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ст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640" y="133200"/>
            <a:ext cx="893772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Рецидив преступлений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WordArt 5"/>
          <p:cNvSpPr txBox="1"/>
          <p:nvPr/>
        </p:nvSpPr>
        <p:spPr>
          <a:xfrm>
            <a:off x="250920" y="623880"/>
            <a:ext cx="58338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5.Пенитенциарный рецидив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258840" y="907920"/>
            <a:ext cx="87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любого преступления лицом, отбывающим нака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ние в виде лишения свобод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WordArt 7"/>
          <p:cNvSpPr txBox="1"/>
          <p:nvPr/>
        </p:nvSpPr>
        <p:spPr>
          <a:xfrm>
            <a:off x="250920" y="1628640"/>
            <a:ext cx="69134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6.Особо опасный рецидив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16720" y="2133720"/>
            <a:ext cx="875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ОПАСНЫЙ РЕЦИДИ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совершение преступления лицом осужденным дважды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)совершение умышленного тяжкого преступления лицом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ужденным ранее за совершение умышленного тяжкого пр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плен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WordArt 13"/>
          <p:cNvSpPr txBox="1"/>
          <p:nvPr/>
        </p:nvSpPr>
        <p:spPr>
          <a:xfrm>
            <a:off x="2957400" y="1989000"/>
            <a:ext cx="34862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азновидности: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208080" y="3882960"/>
            <a:ext cx="902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ОСОБО ОПАСНЫЙ РЕЦИДИ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совершение преступления лицом осужденным трижды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)совершение преступления лицом,осужденным ранее за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ение умышленного тяжкого преступления дважды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)совершение преступления лицом, ране осужденным за умыш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ное тяжкое или особо тяжкое преступл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37440" y="6021360"/>
            <a:ext cx="88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е учитываются снятые, погашенные и судимости, соверше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ые в возрасте до 18 лет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3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11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1.Понятие уголовной ответственност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2.Стадии совершения преступл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3.Соучастие в преступлен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4.Обсточтельства, исключающие преступность дея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5.Рецидив преступл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WordArt 13"/>
          <p:cNvSpPr txBox="1"/>
          <p:nvPr/>
        </p:nvSpPr>
        <p:spPr>
          <a:xfrm>
            <a:off x="179280" y="1557360"/>
            <a:ext cx="1893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а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тветственность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2322360" y="930240"/>
            <a:ext cx="67309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усмотренное уголовно-правовой нормой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примененное к лицу вступившим в силу об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нительным приговором суда государственн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инудительное воздействие за совершенно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е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17"/>
          <p:cNvSpPr txBox="1"/>
          <p:nvPr/>
        </p:nvSpPr>
        <p:spPr>
          <a:xfrm>
            <a:off x="324000" y="2997360"/>
            <a:ext cx="842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снование уголовной ответственности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93280" y="3357720"/>
            <a:ext cx="80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ение деяния, содержащего все признаки состава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(ст.8 УК РФ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WordArt 19"/>
          <p:cNvSpPr txBox="1"/>
          <p:nvPr/>
        </p:nvSpPr>
        <p:spPr>
          <a:xfrm>
            <a:off x="2340000" y="4221000"/>
            <a:ext cx="4495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остав преступления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8080" y="4529160"/>
            <a:ext cx="91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окупность объективных и субъективных признаков, опи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нных в уголовно-правовой норме, необходимых и достаточ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х для признания совершенного деяния в качестве конкрет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го преступления.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ключае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Объект, Объективную сторону, Субъект, Субъективную сторону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324000" y="119700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бъект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реступления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957760" y="801720"/>
            <a:ext cx="605268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уголовным законом- общест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нные отношения, на которые посягае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WordArt 10"/>
          <p:cNvSpPr txBox="1"/>
          <p:nvPr/>
        </p:nvSpPr>
        <p:spPr>
          <a:xfrm>
            <a:off x="324000" y="2709720"/>
            <a:ext cx="23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Объективная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сторона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960640" y="2232000"/>
            <a:ext cx="6080040" cy="1557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ешняя сторона преступления выраже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я в общественно опасном деянии, по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дствиях и причинно-следственной связ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 деянием и последствиям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WordArt 12"/>
          <p:cNvSpPr txBox="1"/>
          <p:nvPr/>
        </p:nvSpPr>
        <p:spPr>
          <a:xfrm>
            <a:off x="324000" y="436104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latin typeface="Impact"/>
              </a:rPr>
              <a:t>Субъект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latin typeface="Impact"/>
              </a:rPr>
              <a:t>преступления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957400" y="3965400"/>
            <a:ext cx="6109200" cy="1557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ршившее преступление физическо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меняемое лицо, достигшее к моменту с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шения преступления возраста с кот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го наступает уголовная ответственност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WordArt 16"/>
          <p:cNvSpPr txBox="1"/>
          <p:nvPr/>
        </p:nvSpPr>
        <p:spPr>
          <a:xfrm>
            <a:off x="468360" y="5734080"/>
            <a:ext cx="842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ая ответственность наступает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13400" y="6211800"/>
            <a:ext cx="88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о общему правилу с 16 лет, по ряду преступлений – с с 14 ле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179280" y="623880"/>
            <a:ext cx="15526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 14 лет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15200" y="879480"/>
            <a:ext cx="8949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мышленное убийство(ст.105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мышленное причинение тяжкого вреда или вреда средне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яжести здоровью (ст.111,112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охищение человека(ст.126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изнасилование(ст.131,13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ража(ст.156), грабеж(ст.161), разбой(ст.162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ымогательство(ст.163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еправомерное завладение транспортным средством, без ц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и хищения(ст.166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мышленное уничтожение или повреждение имущества пр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ягчающих обстоятельствах (ст.167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терроризм(ст.205), захват заложника(ст.206), заведомо ложно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бщение об акте терроризма(ст.207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хулиганство при отягчающих обстоятельствах(ст.213)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хищение либо вымогательство наркотических или психотроп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х средств(ст.229) и др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WordArt 3"/>
          <p:cNvSpPr txBox="1"/>
          <p:nvPr/>
        </p:nvSpPr>
        <p:spPr>
          <a:xfrm>
            <a:off x="3132000" y="62064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меняемость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60920" y="1073160"/>
            <a:ext cx="897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меняемым признается лицо, которое на момент совершени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ственно опасного деяния, сознавало фактический харак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р своего деяния, общественный, его общественную опасност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уководило им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2556000" y="2711520"/>
            <a:ext cx="3887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Критерии вменяемости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755640" y="328464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Юридический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(психологический)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5580000" y="3284640"/>
            <a:ext cx="2830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Медицинский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(биологический)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52280" y="4309920"/>
            <a:ext cx="4624560" cy="228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арактеризуется 2 признаками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интеллектуальны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евозмож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сть осознать характер своих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йствий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волево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еспособность к рук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дству своими действиями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932360" y="4292640"/>
            <a:ext cx="4137120" cy="2288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роническое психическое заболевание, временное психическое расстройство, слабоумие, иное болезнен-ное состояние психики,па-тологическое опьян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179280" y="119700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убъективна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сторона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668320" y="1017720"/>
            <a:ext cx="626292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ическое отношение виновного к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емому им общественно опасному деянию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446040" y="2313000"/>
            <a:ext cx="82296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одержание субъективной стороны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80520" y="278136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ина, мотив, цел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15"/>
          <p:cNvSpPr txBox="1"/>
          <p:nvPr/>
        </p:nvSpPr>
        <p:spPr>
          <a:xfrm>
            <a:off x="179280" y="3913200"/>
            <a:ext cx="11527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н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1568520" y="3284640"/>
            <a:ext cx="739080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ознательное, волевое отношение субъекта к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шаемому им общественно опасному деянию и ег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ледствиям, выраженное в форме умысла, или п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осторожност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WordArt 17"/>
          <p:cNvSpPr txBox="1"/>
          <p:nvPr/>
        </p:nvSpPr>
        <p:spPr>
          <a:xfrm>
            <a:off x="3059280" y="5246640"/>
            <a:ext cx="2885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формы вины: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22560" y="5734080"/>
            <a:ext cx="84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ямой, косвенный умыслы, неосторожность в виде легк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ыслия или небрежности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й ответстве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71280" y="148608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Мотив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еступлен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09920" y="907920"/>
            <a:ext cx="65008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бусловленные определенными потребно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ями и интересами внутренние побуждения,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торые вызывают у лица решимость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шить преступление и которыми оно руковод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вовалось, при его совершении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34920" y="3727440"/>
            <a:ext cx="23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Цель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еступлен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2505960" y="3389400"/>
            <a:ext cx="6476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бщественно  опасный  результат,к достиж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ию которого стремится лицо, при соверш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ии преступлен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377640" y="4992840"/>
            <a:ext cx="844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тив и цель могут в ряде случаев указываться в качеств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спозиции статьи Особенной части УК (ст.105-убийство 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ю сокрытия другого преступления),(ст.162-разбой с ц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ю хищенгия имущества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тадии совершения преступлени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611280" y="620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иготовл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к преступлению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WordArt 8"/>
          <p:cNvSpPr txBox="1"/>
          <p:nvPr/>
        </p:nvSpPr>
        <p:spPr>
          <a:xfrm>
            <a:off x="3544920" y="620640"/>
            <a:ext cx="20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окушение на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еступл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1" name="WordArt 9"/>
          <p:cNvSpPr txBox="1"/>
          <p:nvPr/>
        </p:nvSpPr>
        <p:spPr>
          <a:xfrm>
            <a:off x="6300720" y="620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Оконченно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преступлени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2" name="WordArt 10"/>
          <p:cNvSpPr txBox="1"/>
          <p:nvPr/>
        </p:nvSpPr>
        <p:spPr>
          <a:xfrm>
            <a:off x="108000" y="2352600"/>
            <a:ext cx="927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т.30,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ч.1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1230480" y="1557360"/>
            <a:ext cx="7739640" cy="228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готовлением к преступлению признается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изготовление средств или орудий совершения престу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лений, приискание соучастников, сговор на совер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шение преступления, приспособление средств ил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рудий, умышленное создание условий для соверш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ия преступления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46240" y="3916440"/>
            <a:ext cx="86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Уголовная ответственность наступает только за приготовле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ние к тяжкому или особо тяжкому преступлению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WordArt 13"/>
          <p:cNvSpPr txBox="1"/>
          <p:nvPr/>
        </p:nvSpPr>
        <p:spPr>
          <a:xfrm>
            <a:off x="108000" y="5465880"/>
            <a:ext cx="9270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т.30,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ч.3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172160" y="4797360"/>
            <a:ext cx="7818840" cy="1922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кушением на преступление признаются умышлен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ые действия(бездействия) лица, направленные на с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ершение преступления, если при этом оно не было до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едено до конца, по независящим от лица обстоятельс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вам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Admin</cp:lastModifiedBy>
  <dcterms:modified xsi:type="dcterms:W3CDTF">2023-11-27T10:58:47Z</dcterms:modified>
  <cp:revision>4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